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BD8-A6B6-4EEF-A63C-1BA8D2A82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5FA-36E3-4BD4-B8BE-B8D70BB65F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753-B306-46DC-A1C9-6B947288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1FD-5C72-40F9-A390-6B9FC84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95D-DBEE-425C-BED3-F3BAC551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585-0A95-4764-802B-6EA4C9E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38D-3595-4414-A367-536ACA47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1083-48B0-46CD-84BF-2C7FC9C9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12D3-63C0-41F8-B076-620FE063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69AA-936B-4CB4-BE68-45EE12B9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6EDC-090B-460A-80F6-B9C970E2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3E3-942C-4375-8DA0-31FBE044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F23-440C-4B80-A685-08896B88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E4D5-BCDD-4459-B834-9E64F60C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ECE8-59C0-4000-9216-65DAFD8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E5DB-26BF-4AF1-844C-B5178345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C510-0913-40E1-B4CF-D71BFCAA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8AD5-5EF3-41F1-B7B5-D12FAF7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BBCC-9DBA-4CE6-969A-99D97EDA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7A1-7FF1-418F-904F-E366A850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150-1574-4334-864D-DBC36608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F43B-4C29-416B-9FCB-8797B500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46A-51EF-4894-B103-EE9C08C3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2B6A-0D1D-437E-BDD3-3EA33B23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A68-860E-4BB4-B6A5-89B039A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E46-289B-41AA-AC26-0287676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EDC-29FB-4676-8321-D6CC8B0FD0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C001-A9D7-497E-8204-6B32F059FC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youtube.com/watch?v=n8zBC2dvER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ro to Cartograph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cartograp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 Globes vs. Map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pro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through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ping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2" descr="jesterworld"/>
          <p:cNvPicPr/>
          <p:nvPr/>
        </p:nvPicPr>
        <p:blipFill>
          <a:blip r:embed="rId1"/>
          <a:stretch/>
        </p:blipFill>
        <p:spPr>
          <a:xfrm>
            <a:off x="4800600" y="1447920"/>
            <a:ext cx="3581280" cy="23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gis"/>
          <p:cNvPicPr/>
          <p:nvPr/>
        </p:nvPicPr>
        <p:blipFill>
          <a:blip r:embed="rId2"/>
          <a:stretch/>
        </p:blipFill>
        <p:spPr>
          <a:xfrm>
            <a:off x="5334120" y="4038480"/>
            <a:ext cx="25812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terrupted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globeint"/>
          <p:cNvPicPr/>
          <p:nvPr/>
        </p:nvPicPr>
        <p:blipFill>
          <a:blip r:embed="rId1"/>
          <a:stretch/>
        </p:blipFill>
        <p:spPr>
          <a:xfrm>
            <a:off x="1523880" y="2057400"/>
            <a:ext cx="1982880" cy="3306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inter"/>
          <p:cNvPicPr/>
          <p:nvPr/>
        </p:nvPicPr>
        <p:blipFill>
          <a:blip r:embed="rId2"/>
          <a:stretch/>
        </p:blipFill>
        <p:spPr>
          <a:xfrm>
            <a:off x="4495680" y="2819520"/>
            <a:ext cx="4038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obinson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jection blends techniques to make it a more accurate in thre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robinsonproj"/>
          <p:cNvPicPr/>
          <p:nvPr/>
        </p:nvPicPr>
        <p:blipFill>
          <a:blip r:embed="rId1"/>
          <a:stretch/>
        </p:blipFill>
        <p:spPr>
          <a:xfrm>
            <a:off x="3886200" y="3200400"/>
            <a:ext cx="4876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jection Comparis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tor (cylindric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(or false!)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inson (comprom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accurate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lse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accurate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accurat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Conven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ps ha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7200" y="18288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        O        D        A        L         S      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85800" y="2362320"/>
            <a:ext cx="62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828800" y="2286000"/>
            <a:ext cx="62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048120" y="2286000"/>
            <a:ext cx="625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267080" y="2286000"/>
            <a:ext cx="62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5410080" y="2286000"/>
            <a:ext cx="625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705720" y="2286000"/>
            <a:ext cx="62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7772400" y="2286000"/>
            <a:ext cx="62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Typ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atic (special purpo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hysical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hysical ma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w one or mo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ur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, such as mountains, lakes, rivers, and cl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ef maps sho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op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7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ography:  different elevations on the earth’s surface (height above sea level, such as hills, valleys, mount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5" descr="ca"/>
          <p:cNvPicPr/>
          <p:nvPr/>
        </p:nvPicPr>
        <p:blipFill>
          <a:blip r:embed="rId1"/>
          <a:stretch/>
        </p:blipFill>
        <p:spPr>
          <a:xfrm>
            <a:off x="2097000" y="277920"/>
            <a:ext cx="49500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litical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maps show human-ma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itical boundaries and feat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including country borders, state or province borders, capitals, and c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namerica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matic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matic maps are special-purpose maps that show one or more specific features, or the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wo types of thematic m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295280" indent="-53316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l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95280" indent="-533160">
              <a:spcBef>
                <a:spcPts val="601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alitative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aps show some “quality” (feature, phenomena) of the earth or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statelu"/>
          <p:cNvPicPr/>
          <p:nvPr/>
        </p:nvPicPr>
        <p:blipFill>
          <a:blip r:embed="rId1"/>
          <a:stretch/>
        </p:blipFill>
        <p:spPr>
          <a:xfrm>
            <a:off x="914400" y="28195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4345560" y="5486400"/>
            <a:ext cx="416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NESOTA LAND USE AND COV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0s CENSUS OF THE L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cartograph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tography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mapm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tographers are specially-trained geograp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s are a geographer’s most important tool for thinking spatially (distribution and patter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ap serves two pur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5520" indent="-517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ool for storing reference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5520" indent="-5173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ool for communicating geographic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antitative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aps display “quantities” (numbers) in a visual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k3worldpop"/>
          <p:cNvPicPr/>
          <p:nvPr/>
        </p:nvPicPr>
        <p:blipFill>
          <a:blip r:embed="rId1"/>
          <a:stretch/>
        </p:blipFill>
        <p:spPr>
          <a:xfrm>
            <a:off x="2057400" y="2666880"/>
            <a:ext cx="5238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s Through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ldest known maps were made on clay tablets by the Babylonians (~2300 BC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cient Greeks and Romans made many advances in cartography (i.e., Ptolem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Middle Ages (~1200s-1400s), maps often had religious themes; Arabs excelled in mapmak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Renaissance, printing presses made maps widely available; maps often were based on exploration and used for navig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7" descr="ptolemy"/>
          <p:cNvPicPr/>
          <p:nvPr/>
        </p:nvPicPr>
        <p:blipFill>
          <a:blip r:embed="rId1"/>
          <a:stretch/>
        </p:blipFill>
        <p:spPr>
          <a:xfrm>
            <a:off x="6324480" y="1981080"/>
            <a:ext cx="2667240" cy="176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rosselli"/>
          <p:cNvPicPr/>
          <p:nvPr/>
        </p:nvPicPr>
        <p:blipFill>
          <a:blip r:embed="rId2"/>
          <a:stretch/>
        </p:blipFill>
        <p:spPr>
          <a:xfrm>
            <a:off x="6324480" y="4800600"/>
            <a:ext cx="2703600" cy="1541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alidrisi"/>
          <p:cNvPicPr/>
          <p:nvPr/>
        </p:nvPicPr>
        <p:blipFill>
          <a:blip r:embed="rId3"/>
          <a:stretch/>
        </p:blipFill>
        <p:spPr>
          <a:xfrm>
            <a:off x="4495680" y="3429000"/>
            <a:ext cx="17528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dern Cartograph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became more accurate in the 18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1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uries as technologies impr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 most all maps are made on computers that use GIS (Geographic Information Syste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technologies used in cartography are aerial photography, satellite imagery, and G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gislayers"/>
          <p:cNvPicPr/>
          <p:nvPr/>
        </p:nvPicPr>
        <p:blipFill>
          <a:blip r:embed="rId1"/>
          <a:stretch/>
        </p:blipFill>
        <p:spPr>
          <a:xfrm>
            <a:off x="5859360" y="1600200"/>
            <a:ext cx="161604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Chernobylin1986"/>
          <p:cNvPicPr/>
          <p:nvPr/>
        </p:nvPicPr>
        <p:blipFill>
          <a:blip r:embed="rId2"/>
          <a:stretch/>
        </p:blipFill>
        <p:spPr>
          <a:xfrm>
            <a:off x="5146560" y="3941640"/>
            <a:ext cx="3040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st accurate physical representation of the earth is a globe; still, even globes are inaccu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, why not use a globe if they are more accu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2" descr="globe"/>
          <p:cNvPicPr/>
          <p:nvPr/>
        </p:nvPicPr>
        <p:blipFill>
          <a:blip r:embed="rId1"/>
          <a:stretch/>
        </p:blipFill>
        <p:spPr>
          <a:xfrm>
            <a:off x="5638680" y="1752480"/>
            <a:ext cx="25164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Sca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181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draw at different scales?  Different need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-45720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-45720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ura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ale shows the ratio of distance and area on the earth to the distance and area on the m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is an inverse relationship between the ratio and the “size” of the sc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2" descr="largescale"/>
          <p:cNvPicPr/>
          <p:nvPr/>
        </p:nvPicPr>
        <p:blipFill>
          <a:blip r:embed="rId1"/>
          <a:stretch/>
        </p:blipFill>
        <p:spPr>
          <a:xfrm>
            <a:off x="5791320" y="4038480"/>
            <a:ext cx="266688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smallscale"/>
          <p:cNvPicPr/>
          <p:nvPr/>
        </p:nvPicPr>
        <p:blipFill>
          <a:blip r:embed="rId2"/>
          <a:stretch/>
        </p:blipFill>
        <p:spPr>
          <a:xfrm>
            <a:off x="57913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Proje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ps are inaccurate in at least one way…they distort the earth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round to fl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four true measures, not all of which can be included in a single flat m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distance (great cir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direction (great cir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sha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540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p Projec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ethods of representing the round earth on a flat surface are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j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pose of the map helps determine which projection to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ojection Meth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ematical formulas (algebraic, trigonometric) are used to plot the round earth on a piece of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ographers used math to do what a flashlight and clear globe would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7" descr="lightedge"/>
          <p:cNvPicPr/>
          <p:nvPr/>
        </p:nvPicPr>
        <p:blipFill>
          <a:blip r:embed="rId1"/>
          <a:stretch/>
        </p:blipFill>
        <p:spPr>
          <a:xfrm>
            <a:off x="5181480" y="1600200"/>
            <a:ext cx="1219320" cy="235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lightcenter"/>
          <p:cNvPicPr/>
          <p:nvPr/>
        </p:nvPicPr>
        <p:blipFill>
          <a:blip r:embed="rId2"/>
          <a:stretch/>
        </p:blipFill>
        <p:spPr>
          <a:xfrm>
            <a:off x="7010280" y="1600200"/>
            <a:ext cx="123048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ortho-rays"/>
          <p:cNvPicPr/>
          <p:nvPr/>
        </p:nvPicPr>
        <p:blipFill>
          <a:blip r:embed="rId3"/>
          <a:stretch/>
        </p:blipFill>
        <p:spPr>
          <a:xfrm>
            <a:off x="5257800" y="42670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rcator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8" name="Picture 8" descr="mercator"/>
          <p:cNvPicPr/>
          <p:nvPr/>
        </p:nvPicPr>
        <p:blipFill>
          <a:blip r:embed="rId1"/>
          <a:stretch/>
        </p:blipFill>
        <p:spPr>
          <a:xfrm>
            <a:off x="861840" y="1555920"/>
            <a:ext cx="3938760" cy="3914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yl-rays"/>
          <p:cNvPicPr/>
          <p:nvPr/>
        </p:nvPicPr>
        <p:blipFill>
          <a:blip r:embed="rId2"/>
          <a:stretch/>
        </p:blipFill>
        <p:spPr>
          <a:xfrm>
            <a:off x="4876920" y="3429000"/>
            <a:ext cx="3657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ters Proj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controversial” map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believe it is reduces inflated beliefs in western (Euro &amp; American) supe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believe it doesn’t deserve that much credit—it’s just another pro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6" descr="peterms"/>
          <p:cNvPicPr/>
          <p:nvPr/>
        </p:nvPicPr>
        <p:blipFill>
          <a:blip r:embed="rId1"/>
          <a:stretch/>
        </p:blipFill>
        <p:spPr>
          <a:xfrm>
            <a:off x="4343400" y="2209680"/>
            <a:ext cx="4114800" cy="2549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6705720" y="5867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West 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8:24:26Z</dcterms:created>
  <dc:creator>Stephanie Forsland</dc:creator>
  <dc:description/>
  <dc:language>en-US</dc:language>
  <cp:lastModifiedBy>hberndt</cp:lastModifiedBy>
  <dcterms:modified xsi:type="dcterms:W3CDTF">2009-10-15T13:21:52Z</dcterms:modified>
  <cp:revision>54</cp:revision>
  <dc:subject/>
  <dc:title>Intro to Cartography</dc:title>
</cp:coreProperties>
</file>